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2800440"/>
            <a:ext cx="43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19040"/>
            <a:ext cx="64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33cc"/>
                </a:solidFill>
                <a:latin typeface="Verdana"/>
                <a:ea typeface="Arial"/>
              </a:rPr>
              <a:t>SMR Coaching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360" y="1197000"/>
            <a:ext cx="499284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</a:rPr>
              <a:t>Building the Relationship</a:t>
            </a:r>
            <a:endParaRPr b="0" lang="en-US" sz="3200" spc="1" strike="noStrike">
              <a:ln w="9360">
                <a:solidFill>
                  <a:srgbClr val="3399ff"/>
                </a:solidFill>
                <a:miter/>
              </a:ln>
              <a:solidFill>
                <a:srgbClr val="3366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349360"/>
            <a:ext cx="190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Look Forward and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2349360"/>
            <a:ext cx="142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Look Back and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4365720"/>
            <a:ext cx="118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Action “COG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26920" y="1628640"/>
            <a:ext cx="4177080" cy="720720"/>
            <a:chOff x="2626920" y="1628640"/>
            <a:chExt cx="4177080" cy="720720"/>
          </a:xfrm>
        </p:grpSpPr>
        <p:sp>
          <p:nvSpPr>
            <p:cNvPr id="49" name=""/>
            <p:cNvSpPr/>
            <p:nvPr/>
          </p:nvSpPr>
          <p:spPr>
            <a:xfrm>
              <a:off x="2905560" y="1628640"/>
              <a:ext cx="3898440" cy="629280"/>
            </a:xfrm>
            <a:custGeom>
              <a:avLst/>
              <a:gdLst>
                <a:gd name="textAreaLeft" fmla="*/ 682200 w 3898440"/>
                <a:gd name="textAreaRight" fmla="*/ 2826360 w 3898440"/>
                <a:gd name="textAreaTop" fmla="*/ 84240 h 629280"/>
                <a:gd name="textAreaBottom" fmla="*/ 545040 h 62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66240" y="2078280"/>
              <a:ext cx="974520" cy="27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2626920" y="2077920"/>
              <a:ext cx="1461960" cy="26964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5177520" y="2061720"/>
              <a:ext cx="1461960" cy="2696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542960" y="2813040"/>
            <a:ext cx="2509920" cy="2557440"/>
            <a:chOff x="1542960" y="2813040"/>
            <a:chExt cx="2509920" cy="2557440"/>
          </a:xfrm>
        </p:grpSpPr>
        <p:sp>
          <p:nvSpPr>
            <p:cNvPr id="54" name=""/>
            <p:cNvSpPr/>
            <p:nvPr/>
          </p:nvSpPr>
          <p:spPr>
            <a:xfrm rot="13837200">
              <a:off x="1368360" y="3691080"/>
              <a:ext cx="2650680" cy="801360"/>
            </a:xfrm>
            <a:custGeom>
              <a:avLst/>
              <a:gdLst>
                <a:gd name="textAreaLeft" fmla="*/ 463680 w 2650680"/>
                <a:gd name="textAreaRight" fmla="*/ 1921680 w 2650680"/>
                <a:gd name="textAreaTop" fmla="*/ 107280 h 801360"/>
                <a:gd name="textAreaBottom" fmla="*/ 69408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3837200">
              <a:off x="3319200" y="4542120"/>
              <a:ext cx="662400" cy="34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3037200">
              <a:off x="3107520" y="4488480"/>
              <a:ext cx="994320" cy="34344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3037200">
              <a:off x="1991520" y="3160800"/>
              <a:ext cx="993960" cy="3434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69080" y="2847240"/>
            <a:ext cx="2385360" cy="2709000"/>
            <a:chOff x="4969080" y="2847240"/>
            <a:chExt cx="2385360" cy="2709000"/>
          </a:xfrm>
        </p:grpSpPr>
        <p:sp>
          <p:nvSpPr>
            <p:cNvPr id="59" name=""/>
            <p:cNvSpPr/>
            <p:nvPr/>
          </p:nvSpPr>
          <p:spPr>
            <a:xfrm rot="7959600">
              <a:off x="4836240" y="3909240"/>
              <a:ext cx="2650680" cy="801360"/>
            </a:xfrm>
            <a:custGeom>
              <a:avLst/>
              <a:gdLst>
                <a:gd name="textAreaLeft" fmla="*/ 463680 w 2650680"/>
                <a:gd name="textAreaRight" fmla="*/ 1921680 w 2650680"/>
                <a:gd name="textAreaTop" fmla="*/ 107280 h 801360"/>
                <a:gd name="textAreaBottom" fmla="*/ 69408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959600">
              <a:off x="6314400" y="3103560"/>
              <a:ext cx="662400" cy="34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759600">
              <a:off x="6100920" y="3157200"/>
              <a:ext cx="994320" cy="34344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759600">
              <a:off x="4941000" y="4446360"/>
              <a:ext cx="993960" cy="3434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2124000" y="4437000"/>
            <a:ext cx="49928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</a:rPr>
              <a:t>Embedding New Practice</a:t>
            </a:r>
            <a:endParaRPr b="0" lang="en-US" sz="3200" spc="1" strike="noStrike">
              <a:ln w="9360">
                <a:solidFill>
                  <a:srgbClr val="3399ff"/>
                </a:solidFill>
                <a:miter/>
              </a:ln>
              <a:solidFill>
                <a:srgbClr val="3366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52720" y="2924280"/>
            <a:ext cx="151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</a:rPr>
              <a:t>Improving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66ff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</a:rPr>
              <a:t>Teacher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66ff"/>
              </a:soli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</a:rPr>
              <a:t>Practice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66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9:50:58Z</dcterms:created>
  <dc:creator>DE&amp;T User</dc:creator>
  <dc:description/>
  <dc:language>en-US</dc:language>
  <cp:lastModifiedBy>DE&amp;T User</cp:lastModifiedBy>
  <dcterms:modified xsi:type="dcterms:W3CDTF">2008-02-15T09:51:40Z</dcterms:modified>
  <cp:revision>1</cp:revision>
  <dc:subject/>
  <dc:title>Slide 1</dc:title>
</cp:coreProperties>
</file>